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4E2-EF8D-42C9-85E8-0DD59ECB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1CE-E86D-4C3D-AF00-19FF4BEF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A42-FD00-4DA5-9095-F35BECC8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C0E-565B-4825-9658-7B9FA9C7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2E16B-40BD-4137-9D3D-11E6718A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A8E42-79DB-4468-99F4-56ED45E4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2C3AE-9964-4BA4-8C0E-99D610CB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50BC8-58A9-48F0-B74E-5B50E934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7DFF8-3878-44DD-8629-8DEC9823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A0190-6677-4295-B18D-37D3961F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46DCC-F6DB-434F-AA40-07DD1CF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839-F1C0-4627-A72C-8D6E1C97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6B941-412D-495D-B121-5D9E4FD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B6871-A108-40BF-A615-654F663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4F1BB-42A6-428E-80C0-230679E9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EC348-E8D5-485A-AED8-D4399175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5C3D2-C459-432D-A0A6-ED241A1C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267-2831-4800-A3E0-8CE0EBB3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E30-4BA0-4C9A-9A08-57F366F4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B81-35BB-4DCC-9392-49A52E10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0D5-6898-4E7B-BC91-225FF583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3D1-5E8E-4A02-94A8-2701D18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A79-8FDF-4DFB-AC26-094D98B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9B5-2E23-4D3C-B723-34D51BAE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8E81-DAD2-4E43-9A8E-3FED2B6BF3C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5008-3D87-42E5-884B-6CF22B3D572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8584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n Jan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a-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s sind Indikatore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kator leitet sich von indicare (=anzeigen) 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der Chemie: = Stoff oder Gerät zur Überwachung von chemischer Reaktion oder Zust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äure/Base 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m allg. organische Säuren mit verschiedener Farbe zur korrespondierenden 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Bsp: Bei Methylorange Säure rot &amp; korr. Base ge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mschlagsbereiche von Säure/Ba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Indikator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e Farbe eines Indikators ergibt sich aus dem Gleichgewicht von Säure &amp; kor. Bas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rbwechsel ist erst bei zehnfachem Überschuss der Säure bzw. der Kor. Base vollständig sichtba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dikatoren können einen oder zwei Umschlagsbereiche besitz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71560" y="4716360"/>
            <a:ext cx="73724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00720" y="3500280"/>
            <a:ext cx="2843280" cy="3357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as ph-Me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nelle und genaue Bestimmung von pH-Wer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zeugt durch Elektrode eine Spannung, welche vom pH-Wert abhäng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versal- &amp; Spezialindikato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Universalindikator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Gemisch von Indikatoren mit versch. Umschlagsbereichen (Bsp.Indikatorpap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pH - Bereich 1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Spezialindikator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Kleinere pH-Bereiche bis zu 0,2 pH-Einhe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rsu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Materialien: 2 Bechergläser; Schwarzer Tee; Rotkohlsaft; Zitronensaft; Spülmitt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Versuchaufbau: Je ein Becherglas mit Tee und Rotkohlsaft fül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Versuch:1 Spritzer Zitronensaft in den Tee geb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Spritzer Spülmittel in den Rotkohlsaft geb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Ergebnis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6:25:10Z</dcterms:created>
  <dc:creator>Lena</dc:creator>
  <dc:description/>
  <dc:language>en-US</dc:language>
  <cp:lastModifiedBy>Lena</cp:lastModifiedBy>
  <dcterms:modified xsi:type="dcterms:W3CDTF">2005-12-13T18:17:14Z</dcterms:modified>
  <cp:revision>5</cp:revision>
  <dc:subject/>
  <dc:title>Indikatoren</dc:title>
</cp:coreProperties>
</file>